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17B34-BBD9-4FF7-990C-5061F2CCA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CBF5B-FD00-42EC-8900-D5E82887C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AB54B-A173-4DB6-A35F-C319E57B7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AE970-5517-4B56-84C8-F490D5085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5 ideas, events,    or people associated   with  “counter-culture”  or the “youth movement”     of the 1960s &amp; 1970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A2074-ECFE-4708-BCD5-A0DCA7399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xiecra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ack Powe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vil Rights Ac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ing Rights Act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hurgood Marshall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tion of Islam (Black Muslim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797AD-1B6C-4369-A74C-207CA6864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newall Rio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e v. Wad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 Raz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sar Chavez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catraz Island, 19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4450F-D3E2-4528-AD4D-AE15D7338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68AF9-0D1C-4E32-A1A7-6BF3769C6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ing Congress’ approval to send U.S. forces into combat for more than 90 days &amp; must inform Congress within 48 hours as to the reasons for military inter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494D-7889-4ACB-9ECF-0B0FB2D52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ginning of the civil rights movement in 195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mergence of Martin Luther King as a national civil rights leader in 195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ch on Washington in 1963 b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,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LC,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NCC,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AC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vil Rights Act of 19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ting Rights Act of 19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4BCC-5B70-4584-8075-C58979B97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st &amp; the Brightest”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New Frontier”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Flexible Response”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y of Pigs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rren Com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AFDBC-CB8F-4973-BA4B-9B7CD9AC9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0E1E1-F3D7-410D-8A6C-D83ED6E73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 Chi Min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go Dinh Diem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etcong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ulf of Tonkin Resolution, 1964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t Offensive, 1968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tagon Paper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etnam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914400" y="416448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3144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14400" y="4164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5131440" y="4164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96840" y="121896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79280" y="121896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914400" y="4164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696840" y="4164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79280" y="4164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9144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4015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31440" y="1218960"/>
            <a:ext cx="4015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1430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31440" y="1218960"/>
            <a:ext cx="4015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914400" y="4164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9144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4015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3144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131440" y="4164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3144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14400" y="416448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914400" y="416448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3144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4164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131440" y="4164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696840" y="121896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479280" y="121896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914400" y="4164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696840" y="4164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479280" y="4164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4015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1440" y="1218960"/>
            <a:ext cx="4015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1430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31440" y="1218960"/>
            <a:ext cx="4015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14400" y="4164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4015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3144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131440" y="4164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31440" y="121896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914400" y="416448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9144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2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3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Unit 13 Review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ssential Ques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were the major domestic &amp;  foreign themes in U.S. history from 1960-197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Cuban Missile                                          Death Match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Cuban missile crisis"/>
          <p:cNvPicPr/>
          <p:nvPr/>
        </p:nvPicPr>
        <p:blipFill>
          <a:blip r:embed="rId1">
            <a:lum contrast="-12000"/>
          </a:blip>
          <a:srcRect l="1338" t="0" r="0" b="0"/>
          <a:stretch/>
        </p:blipFill>
        <p:spPr>
          <a:xfrm>
            <a:off x="3809880" y="2744640"/>
            <a:ext cx="5334120" cy="4113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66"/>
                </a:solidFill>
                <a:latin typeface="Times New Roman"/>
              </a:rPr>
              <a:t>Name 1 way each helped   </a:t>
            </a:r>
            <a:r>
              <a:rPr b="0" lang="en-US" sz="5000" spc="-1" strike="noStrike" u="sng">
                <a:solidFill>
                  <a:srgbClr val="003366"/>
                </a:solidFill>
                <a:uFillTx/>
                <a:latin typeface="Times New Roman"/>
              </a:rPr>
              <a:t>Civil Rights from 1948-1965:</a:t>
            </a:r>
            <a:br>
              <a:rPr sz="5000"/>
            </a:br>
            <a:r>
              <a:rPr b="0" i="1" lang="en-US" sz="5000" spc="-1" strike="noStrike">
                <a:solidFill>
                  <a:srgbClr val="003366"/>
                </a:solidFill>
                <a:latin typeface="Times New Roman"/>
              </a:rPr>
              <a:t>Harry Truman</a:t>
            </a:r>
            <a:br>
              <a:rPr sz="5000"/>
            </a:br>
            <a:r>
              <a:rPr b="0" i="1" lang="en-US" sz="5000" spc="-1" strike="noStrike">
                <a:solidFill>
                  <a:srgbClr val="003366"/>
                </a:solidFill>
                <a:latin typeface="Times New Roman"/>
              </a:rPr>
              <a:t>Dwight Eisenhower</a:t>
            </a:r>
            <a:br>
              <a:rPr sz="5000"/>
            </a:br>
            <a:r>
              <a:rPr b="0" i="1" lang="en-US" sz="5000" spc="-1" strike="noStrike">
                <a:solidFill>
                  <a:srgbClr val="003366"/>
                </a:solidFill>
                <a:latin typeface="Times New Roman"/>
              </a:rPr>
              <a:t>Lyndon Johnson</a:t>
            </a:r>
            <a:br>
              <a:rPr sz="5000"/>
            </a:br>
            <a:r>
              <a:rPr b="0" i="1" lang="en-US" sz="5000" spc="-1" strike="noStrike">
                <a:solidFill>
                  <a:srgbClr val="003366"/>
                </a:solidFill>
                <a:latin typeface="Times New Roman"/>
              </a:rPr>
              <a:t>Supreme Court </a:t>
            </a:r>
            <a:br>
              <a:rPr sz="5000"/>
            </a:br>
            <a:r>
              <a:rPr b="0" i="1" lang="en-US" sz="5000" spc="-1" strike="noStrike">
                <a:solidFill>
                  <a:srgbClr val="003366"/>
                </a:solidFill>
                <a:latin typeface="Times New Roman"/>
              </a:rPr>
              <a:t>CORE</a:t>
            </a:r>
            <a:br>
              <a:rPr sz="5000"/>
            </a:br>
            <a:r>
              <a:rPr b="0" i="1" lang="en-US" sz="5000" spc="-1" strike="noStrike">
                <a:solidFill>
                  <a:srgbClr val="003366"/>
                </a:solidFill>
                <a:latin typeface="Times New Roman"/>
              </a:rPr>
              <a:t>SNCC</a:t>
            </a:r>
            <a:r>
              <a:rPr b="0" lang="en-US" sz="5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04560" y="152280"/>
            <a:ext cx="883908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87720" indent="-387720">
              <a:spcBef>
                <a:spcPts val="90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Truman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: Desegregated military in 194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7720" indent="-387720">
              <a:spcBef>
                <a:spcPts val="90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Ike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: Enforced school integration at Little Rock’s Central High School in 1957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7720" indent="-387720">
              <a:spcBef>
                <a:spcPts val="90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LBJ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: Civil Rights Act of 1964, Voting Rights Act of 1965, 24</a:t>
            </a:r>
            <a:r>
              <a:rPr b="0" lang="en-US" sz="3600" spc="-1" strike="noStrike" baseline="30000">
                <a:solidFill>
                  <a:srgbClr val="cc0000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 Amend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7720" indent="-387720">
              <a:spcBef>
                <a:spcPts val="90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Supreme Court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: Brown v. BOE in 1954 overturned Pless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7720" indent="-387720">
              <a:spcBef>
                <a:spcPts val="90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CORE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: Freedom Rides in 196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7720" indent="-387720">
              <a:spcBef>
                <a:spcPts val="90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SNCC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: College students inspired by MLK began the sit-in; Later became militant under Stokely Carmichae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Times New Roman"/>
              </a:rPr>
              <a:t>Name 3 reasons 1968  was one of the most tumultuous years in American history  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883908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5000"/>
              </a:lnSpc>
              <a:spcBef>
                <a:spcPts val="100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Assassination of ML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00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Assassination of Robert Kenne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00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Student protests in Chicago during Democratic National Convention (Humphrey vs. McCarthy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00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Height of the Vietnam War with 500,000 U.S. soldiers deploy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00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North Vietnam’s Tet Offensi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00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Black Power” silent protest at Mexico City Olympic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Times New Roman"/>
              </a:rPr>
              <a:t>Name 5 ideas, events,    or people associated   with  “counter-culture”  or the “youth movement”     of the 1960s &amp; 1970s 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90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Mario Savio, “Free Speech” movement, Students for a Democ Society (SD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Sex, drugs, rock n roll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Protest of the Vietnam War; Kent State &amp; Jackson State violence in 197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Timothy Leary “tune in, turn on, drop out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Woodstock concert, 1969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Hippies” &amp; alternative communit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Any of the “power movement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Political activism; Dem Convention 1968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83059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3366"/>
                </a:solidFill>
                <a:uFillTx/>
                <a:latin typeface="Times New Roman"/>
              </a:rPr>
              <a:t>Identify Each:</a:t>
            </a:r>
            <a:br>
              <a:rPr sz="6000"/>
            </a:b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Dixiecrat</a:t>
            </a:r>
            <a:br>
              <a:rPr sz="4800"/>
            </a:b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Black Power</a:t>
            </a:r>
            <a:br>
              <a:rPr sz="4800"/>
            </a:b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Civil Rights Act</a:t>
            </a:r>
            <a:br>
              <a:rPr sz="4800"/>
            </a:b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Voting Rights Act </a:t>
            </a:r>
            <a:br>
              <a:rPr sz="4800"/>
            </a:b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 Thurgood Marshall </a:t>
            </a:r>
            <a:br>
              <a:rPr sz="4800"/>
            </a:b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Nation of Islam (Black Muslims)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28240" y="76320"/>
            <a:ext cx="8839080" cy="67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Dixiecrat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: Southern Democrats who splintered from the party in opposition to civil rights position of JFK &amp; LBJ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Black Power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: led by SNCC &amp; Stokely Carmichael, advocated economic equality with whites; often milit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Civil Rights Act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: ended segregation l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Voting Rights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: ended literacy tests &amp; allowed for federal voting registr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Marshall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: Lead NAACP attorney in the Brown case; 1</a:t>
            </a:r>
            <a:r>
              <a:rPr b="0" lang="en-US" sz="3600" spc="-1" strike="noStrike" baseline="30000">
                <a:solidFill>
                  <a:srgbClr val="cc0000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 black Sup.Court just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Nation of Islam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: Led by Malcolm X, advocated a militant, pro-Africa posi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83059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3366"/>
                </a:solidFill>
                <a:uFillTx/>
                <a:latin typeface="Times New Roman"/>
              </a:rPr>
              <a:t>Identify Each Civil Rights Concept from 1965-1974</a:t>
            </a:r>
            <a:r>
              <a:rPr b="0" lang="en-US" sz="4800" spc="-1" strike="noStrike">
                <a:solidFill>
                  <a:srgbClr val="003366"/>
                </a:solidFill>
                <a:latin typeface="Times New Roman"/>
              </a:rPr>
              <a:t>:</a:t>
            </a:r>
            <a:br>
              <a:rPr sz="5400"/>
            </a:b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 Stonewall Riot</a:t>
            </a:r>
            <a:br>
              <a:rPr sz="4800"/>
            </a:b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ERA</a:t>
            </a:r>
            <a:br>
              <a:rPr sz="4800"/>
            </a:b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Roe v. Wade </a:t>
            </a:r>
            <a:br>
              <a:rPr sz="4800"/>
            </a:b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La Raza</a:t>
            </a:r>
            <a:br>
              <a:rPr sz="4800"/>
            </a:b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Cesar Chavez</a:t>
            </a:r>
            <a:br>
              <a:rPr sz="4800"/>
            </a:b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Alcatraz Island, 1969 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0" y="7632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Stonewall Riot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: Arrests in NY began the gay liberation movement (GLF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Equal Rights Amnd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: failed amendment to end sexual discrimination; Supported by Freidan &amp; Steinem; Opposed by Schlafl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Roe v Wade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: Supreme Court upheld abortion rights as a matter of priv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La Raza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: Mexican-American movement dedicated to awarenes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Cesar Chavez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: Mexican-Am leader of United Farm Workers of Ame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Alcatraz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: Indians of All Tribes seized the prison to bring awareness to Indian righ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3366"/>
                </a:solidFill>
                <a:uFillTx/>
                <a:latin typeface="Times New Roman"/>
              </a:rPr>
              <a:t>What Event </a:t>
            </a:r>
            <a:r>
              <a:rPr b="0" i="1" lang="en-US" sz="5400" spc="-1" strike="noStrike" u="sng">
                <a:solidFill>
                  <a:srgbClr val="003366"/>
                </a:solidFill>
                <a:uFillTx/>
                <a:latin typeface="Times New Roman"/>
              </a:rPr>
              <a:t>Caused</a:t>
            </a:r>
            <a:r>
              <a:rPr b="0" lang="en-US" sz="5400" spc="-1" strike="noStrike" u="sng">
                <a:solidFill>
                  <a:srgbClr val="003366"/>
                </a:solidFill>
                <a:uFillTx/>
                <a:latin typeface="Times New Roman"/>
              </a:rPr>
              <a:t> Each?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07960" indent="-507960">
              <a:lnSpc>
                <a:spcPct val="95000"/>
              </a:lnSpc>
              <a:spcBef>
                <a:spcPts val="751"/>
              </a:spcBef>
              <a:buClr>
                <a:srgbClr val="0099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Times New Roman"/>
              </a:rPr>
              <a:t>The beginning of the civil rights movement in 1954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07960" indent="-507960">
              <a:lnSpc>
                <a:spcPct val="95000"/>
              </a:lnSpc>
              <a:spcBef>
                <a:spcPts val="751"/>
              </a:spcBef>
              <a:buClr>
                <a:srgbClr val="0099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Times New Roman"/>
              </a:rPr>
              <a:t>The emergence of Martin Luther King as a national civil rights leader in 1955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07960" indent="-507960">
              <a:lnSpc>
                <a:spcPct val="95000"/>
              </a:lnSpc>
              <a:spcBef>
                <a:spcPts val="751"/>
              </a:spcBef>
              <a:buClr>
                <a:srgbClr val="0099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Times New Roman"/>
              </a:rPr>
              <a:t>March on Washington in 1963 by</a:t>
            </a:r>
            <a:r>
              <a:rPr b="0" i="1" lang="en-US" sz="3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003366"/>
                </a:solidFill>
                <a:latin typeface="Times New Roman"/>
              </a:rPr>
              <a:t>CORE,</a:t>
            </a:r>
            <a:r>
              <a:rPr b="0" i="1" lang="en-US" sz="3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003366"/>
                </a:solidFill>
                <a:latin typeface="Times New Roman"/>
              </a:rPr>
              <a:t>SCLC,</a:t>
            </a:r>
            <a:r>
              <a:rPr b="0" i="1" lang="en-US" sz="3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003366"/>
                </a:solidFill>
                <a:latin typeface="Times New Roman"/>
              </a:rPr>
              <a:t>SNCC,</a:t>
            </a:r>
            <a:r>
              <a:rPr b="0" i="1" lang="en-US" sz="3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003366"/>
                </a:solidFill>
                <a:latin typeface="Times New Roman"/>
              </a:rPr>
              <a:t>NAAC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07960" indent="-507960">
              <a:lnSpc>
                <a:spcPct val="95000"/>
              </a:lnSpc>
              <a:spcBef>
                <a:spcPts val="751"/>
              </a:spcBef>
              <a:buClr>
                <a:srgbClr val="0099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Times New Roman"/>
              </a:rPr>
              <a:t>Civil Rights Act of 196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07960" indent="-507960">
              <a:lnSpc>
                <a:spcPct val="95000"/>
              </a:lnSpc>
              <a:spcBef>
                <a:spcPts val="751"/>
              </a:spcBef>
              <a:buClr>
                <a:srgbClr val="0099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Times New Roman"/>
              </a:rPr>
              <a:t>Voting Rights Act of 196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Times New Roman"/>
              </a:rPr>
              <a:t>Name the 3 components of Nixon’s détente foreign policy 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883908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00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0000"/>
                </a:solidFill>
                <a:uFillTx/>
                <a:latin typeface="Arial"/>
              </a:rPr>
              <a:t>Détente</a:t>
            </a: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: Nixon’s Cold War foreign policy involved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spcBef>
                <a:spcPts val="11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Easing tensions with USS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spcBef>
                <a:spcPts val="11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Better relations with Ch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spcBef>
                <a:spcPts val="11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A gradual withdrawal from Vietnam (Vietnamizatio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83059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3366"/>
                </a:solidFill>
                <a:uFillTx/>
                <a:latin typeface="Times New Roman"/>
              </a:rPr>
              <a:t>Identify Each Nixon Concept</a:t>
            </a:r>
            <a:r>
              <a:rPr b="0" lang="en-US" sz="4800" spc="-1" strike="noStrike">
                <a:solidFill>
                  <a:srgbClr val="003366"/>
                </a:solidFill>
                <a:latin typeface="Times New Roman"/>
              </a:rPr>
              <a:t>:</a:t>
            </a:r>
            <a:br>
              <a:rPr sz="5400"/>
            </a:br>
            <a:r>
              <a:rPr b="0" i="1" lang="en-US" sz="4700" spc="-1" strike="noStrike">
                <a:solidFill>
                  <a:srgbClr val="003366"/>
                </a:solidFill>
                <a:latin typeface="Times New Roman"/>
              </a:rPr>
              <a:t>“The Great Nixon Turn-Around”</a:t>
            </a:r>
            <a:br>
              <a:rPr sz="4700"/>
            </a:br>
            <a:r>
              <a:rPr b="0" i="1" lang="en-US" sz="4700" spc="-1" strike="noStrike">
                <a:solidFill>
                  <a:srgbClr val="003366"/>
                </a:solidFill>
                <a:latin typeface="Times New Roman"/>
              </a:rPr>
              <a:t>“Silent Majority”</a:t>
            </a:r>
            <a:br>
              <a:rPr sz="4700"/>
            </a:br>
            <a:r>
              <a:rPr b="0" i="1" lang="en-US" sz="4700" spc="-1" strike="noStrike">
                <a:solidFill>
                  <a:srgbClr val="003366"/>
                </a:solidFill>
                <a:latin typeface="Times New Roman"/>
              </a:rPr>
              <a:t>Ping-Pong Diplomacy</a:t>
            </a:r>
            <a:br>
              <a:rPr sz="4700"/>
            </a:br>
            <a:r>
              <a:rPr b="0" i="1" lang="en-US" sz="4700" spc="-1" strike="noStrike">
                <a:solidFill>
                  <a:srgbClr val="003366"/>
                </a:solidFill>
                <a:latin typeface="Times New Roman"/>
              </a:rPr>
              <a:t>SALT</a:t>
            </a:r>
            <a:br>
              <a:rPr sz="4700"/>
            </a:br>
            <a:r>
              <a:rPr b="0" i="1" lang="en-US" sz="4700" spc="-1" strike="noStrike">
                <a:solidFill>
                  <a:srgbClr val="003366"/>
                </a:solidFill>
                <a:latin typeface="Times New Roman"/>
              </a:rPr>
              <a:t>War Powers Act (1973)</a:t>
            </a:r>
            <a:br>
              <a:rPr sz="4000"/>
            </a:br>
            <a:r>
              <a:rPr b="0" i="1" lang="en-US" sz="4700" spc="-1" strike="noStrike">
                <a:solidFill>
                  <a:srgbClr val="003366"/>
                </a:solidFill>
                <a:latin typeface="Times New Roman"/>
              </a:rPr>
              <a:t>Watergate</a:t>
            </a: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Nixon Turn-Around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: 90-day freeze on wages helped end a recession in 197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Silent Majority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: Conservative minded Americans fed up with liberal reform, Cold War foreign policy, &amp; student protes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Ping-Pong Diplomacy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: beginning of Nixon’s official recognition of Chin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SALT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: nuclear arms limitation with US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War Powers Act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0" lang="en-US" sz="3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Restricted</a:t>
            </a:r>
            <a:r>
              <a:rPr b="0" lang="en-US" sz="3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military</a:t>
            </a:r>
            <a:r>
              <a:rPr b="0" lang="en-US" sz="3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power of president; Congressional approval to send troops for more than 90 d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Watergate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: biggest prez scandal e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950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Arial"/>
              </a:rPr>
              <a:t>Brown v BOE </a:t>
            </a:r>
            <a:r>
              <a:rPr b="0" lang="en-US" sz="3800" spc="-1" strike="noStrike">
                <a:solidFill>
                  <a:srgbClr val="cc0000"/>
                </a:solidFill>
                <a:latin typeface="Arial"/>
                <a:ea typeface="Arial"/>
              </a:rPr>
              <a:t>→ </a:t>
            </a:r>
            <a:r>
              <a:rPr b="0" lang="en-US" sz="3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Civil Rights Movement</a:t>
            </a:r>
            <a:r>
              <a:rPr b="0" lang="en-US" sz="3800" spc="-1" strike="noStrike">
                <a:solidFill>
                  <a:srgbClr val="cc0000"/>
                </a:solidFill>
                <a:latin typeface="Arial"/>
                <a:ea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50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Arial"/>
                <a:ea typeface="Arial"/>
              </a:rPr>
              <a:t>Success of the Montgomery Bus Boycott → </a:t>
            </a:r>
            <a:r>
              <a:rPr b="0" lang="en-US" sz="3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MLK as leader</a:t>
            </a:r>
            <a:r>
              <a:rPr b="0" lang="en-US" sz="3800" spc="-1" strike="noStrike">
                <a:solidFill>
                  <a:srgbClr val="cc0000"/>
                </a:solidFill>
                <a:latin typeface="Arial"/>
                <a:ea typeface="Arial"/>
              </a:rPr>
              <a:t> (&amp; SCLC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50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Arial"/>
                <a:ea typeface="Arial"/>
              </a:rPr>
              <a:t>National attention generated by Birmingham march → </a:t>
            </a:r>
            <a:r>
              <a:rPr b="0" lang="en-US" sz="3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March on D.C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50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Arial"/>
                <a:ea typeface="Arial"/>
              </a:rPr>
              <a:t>Birmingham violence on TV and/or March on D.C. → </a:t>
            </a:r>
            <a:r>
              <a:rPr b="0" lang="en-US" sz="3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Civil Rights Act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50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Arial"/>
                <a:ea typeface="Arial"/>
              </a:rPr>
              <a:t>Violence at Selma march → </a:t>
            </a:r>
            <a:r>
              <a:rPr b="0" lang="en-US" sz="3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Voting Rights Act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83059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3366"/>
                </a:solidFill>
                <a:uFillTx/>
                <a:latin typeface="Times New Roman"/>
              </a:rPr>
              <a:t>Identify Each JFK Concept</a:t>
            </a: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:</a:t>
            </a:r>
            <a:br>
              <a:rPr sz="5400"/>
            </a:b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“Best &amp; the Brightest”</a:t>
            </a:r>
            <a:br>
              <a:rPr sz="4800"/>
            </a:b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“New Frontier”</a:t>
            </a:r>
            <a:br>
              <a:rPr sz="4800"/>
            </a:b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“Flexible Response”</a:t>
            </a:r>
            <a:br>
              <a:rPr sz="4800"/>
            </a:b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Bay of Pigs </a:t>
            </a:r>
            <a:br>
              <a:rPr sz="4800"/>
            </a:b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Warren Commission 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5000"/>
              </a:lnSpc>
              <a:spcBef>
                <a:spcPts val="45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0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Best &amp; Brightest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”: Term for JFK’s White House staff; He increased power of prez by using his staff more than the Cabi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45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0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New Frontier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”: JFK’s domestic policy, called for liberal reform in education, poverty, &amp; strong stand against US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45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0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Flexible Response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”: JFK’s foreign policy of using a variety of tactics, increased nuclear missiles, CIA, Green Ber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45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Bay of Pigs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: Failed invasion of Cuba 196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451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Warren Commission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: Gov’t investigation of JFK’s assassination (“Oswald did it“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Times New Roman"/>
              </a:rPr>
              <a:t>Name 6 components of Lyndon Johnson’s </a:t>
            </a:r>
            <a:br>
              <a:rPr sz="6000"/>
            </a:br>
            <a:r>
              <a:rPr b="0" lang="en-US" sz="6000" spc="-1" strike="noStrike">
                <a:solidFill>
                  <a:srgbClr val="003366"/>
                </a:solidFill>
                <a:latin typeface="Times New Roman"/>
              </a:rPr>
              <a:t>“Great Society” 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"/>
          <p:cNvPicPr/>
          <p:nvPr/>
        </p:nvPicPr>
        <p:blipFill>
          <a:blip r:embed="rId1"/>
          <a:srcRect l="13478" t="18044" r="8790" b="752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3429000" y="2057400"/>
            <a:ext cx="1219320" cy="609480"/>
          </a:xfrm>
          <a:prstGeom prst="rect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3657600" y="5791320"/>
            <a:ext cx="1219320" cy="609480"/>
          </a:xfrm>
          <a:prstGeom prst="rect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4267080" y="6324480"/>
            <a:ext cx="1219320" cy="609840"/>
          </a:xfrm>
          <a:prstGeom prst="rect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609480" y="4800600"/>
            <a:ext cx="1219320" cy="609480"/>
          </a:xfrm>
          <a:prstGeom prst="rect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228600" y="3276720"/>
            <a:ext cx="1219320" cy="609480"/>
          </a:xfrm>
          <a:prstGeom prst="rect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228600" y="1447920"/>
            <a:ext cx="1219320" cy="609480"/>
          </a:xfrm>
          <a:prstGeom prst="rect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4114800" y="4800600"/>
            <a:ext cx="1371600" cy="38088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12"/>
          <p:cNvSpPr/>
          <p:nvPr/>
        </p:nvSpPr>
        <p:spPr>
          <a:xfrm>
            <a:off x="1600200" y="3657600"/>
            <a:ext cx="1371600" cy="38088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250" autoRev="1" fill="hold"/>
                                        <p:tgtEl>
                                          <p:spTgt spid="1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0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6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7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250" autoRev="1" fill="hold"/>
                                        <p:tgtEl>
                                          <p:spTgt spid="1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6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8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83059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3366"/>
                </a:solidFill>
                <a:uFillTx/>
                <a:latin typeface="Times New Roman"/>
              </a:rPr>
              <a:t>Identify Each Vietnam Concept</a:t>
            </a:r>
            <a:r>
              <a:rPr b="0" lang="en-US" sz="4800" spc="-1" strike="noStrike">
                <a:solidFill>
                  <a:srgbClr val="003366"/>
                </a:solidFill>
                <a:latin typeface="Times New Roman"/>
              </a:rPr>
              <a:t>:</a:t>
            </a:r>
            <a:br>
              <a:rPr sz="4800"/>
            </a:b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Ho Chi Minh</a:t>
            </a:r>
            <a:br>
              <a:rPr sz="4800"/>
            </a:b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Ngo Dinh Diem </a:t>
            </a:r>
            <a:br>
              <a:rPr sz="4800"/>
            </a:b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Vietcong </a:t>
            </a:r>
            <a:br>
              <a:rPr sz="4800"/>
            </a:b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Gulf of Tonkin Resolution, 1964</a:t>
            </a:r>
            <a:br>
              <a:rPr sz="4800"/>
            </a:b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Tet Offensive, 1968</a:t>
            </a:r>
            <a:br>
              <a:rPr sz="4800"/>
            </a:b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Pentagon Papers</a:t>
            </a:r>
            <a:br>
              <a:rPr sz="4800"/>
            </a:b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Vietnamization  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lnSpc>
                <a:spcPct val="90000"/>
              </a:lnSpc>
              <a:spcBef>
                <a:spcPts val="638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cc0000"/>
                </a:solidFill>
                <a:uFillTx/>
                <a:latin typeface="Arial"/>
              </a:rPr>
              <a:t>Ho Chi Minh</a:t>
            </a:r>
            <a:r>
              <a:rPr b="0" lang="en-US" sz="3400" spc="-1" strike="noStrike">
                <a:solidFill>
                  <a:srgbClr val="cc0000"/>
                </a:solidFill>
                <a:latin typeface="Arial"/>
              </a:rPr>
              <a:t>: Communist leader in Nor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38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cc0000"/>
                </a:solidFill>
                <a:uFillTx/>
                <a:latin typeface="Arial"/>
              </a:rPr>
              <a:t>Diem</a:t>
            </a:r>
            <a:r>
              <a:rPr b="0" lang="en-US" sz="3400" spc="-1" strike="noStrike">
                <a:solidFill>
                  <a:srgbClr val="cc0000"/>
                </a:solidFill>
                <a:latin typeface="Arial"/>
              </a:rPr>
              <a:t>: Democratic leader in South; JFK gave OK for his assassination in 1963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38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cc0000"/>
                </a:solidFill>
                <a:uFillTx/>
                <a:latin typeface="Arial"/>
              </a:rPr>
              <a:t>Vietcong</a:t>
            </a:r>
            <a:r>
              <a:rPr b="0" lang="en-US" sz="3400" spc="-1" strike="noStrike">
                <a:solidFill>
                  <a:srgbClr val="cc0000"/>
                </a:solidFill>
                <a:latin typeface="Arial"/>
              </a:rPr>
              <a:t>: Communists in the South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38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cc0000"/>
                </a:solidFill>
                <a:uFillTx/>
                <a:latin typeface="Arial"/>
              </a:rPr>
              <a:t>Gulf of Tonkin Resolution</a:t>
            </a:r>
            <a:r>
              <a:rPr b="0" lang="en-US" sz="3400" spc="-1" strike="noStrike">
                <a:solidFill>
                  <a:srgbClr val="cc0000"/>
                </a:solidFill>
                <a:latin typeface="Arial"/>
              </a:rPr>
              <a:t>: Congress gave LBJ all necessary steps to win Vietnam;   led to full deployment of U.S. troops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38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cc0000"/>
                </a:solidFill>
                <a:uFillTx/>
                <a:latin typeface="Arial"/>
              </a:rPr>
              <a:t>Tet Offensive</a:t>
            </a:r>
            <a:r>
              <a:rPr b="0" lang="en-US" sz="3400" spc="-1" strike="noStrike">
                <a:solidFill>
                  <a:srgbClr val="cc0000"/>
                </a:solidFill>
                <a:latin typeface="Arial"/>
              </a:rPr>
              <a:t>: Communist invasion into South; showed that USA wasn’t winn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38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 u="sng">
                <a:solidFill>
                  <a:srgbClr val="cc0000"/>
                </a:solidFill>
                <a:uFillTx/>
                <a:latin typeface="Arial"/>
              </a:rPr>
              <a:t>Pentagon Papers</a:t>
            </a:r>
            <a:r>
              <a:rPr b="0" lang="en-US" sz="3400" spc="-1" strike="noStrike">
                <a:solidFill>
                  <a:srgbClr val="cc0000"/>
                </a:solidFill>
                <a:latin typeface="Arial"/>
              </a:rPr>
              <a:t>: Military docs showed U.S. gov’t was distorting truth about war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38"/>
              </a:spcBef>
              <a:buClr>
                <a:srgbClr val="0099cc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cc0000"/>
                </a:solidFill>
                <a:uFillTx/>
                <a:latin typeface="Arial"/>
              </a:rPr>
              <a:t>Vietnamization</a:t>
            </a:r>
            <a:r>
              <a:rPr b="0" lang="en-US" sz="3400" spc="-1" strike="noStrike">
                <a:solidFill>
                  <a:srgbClr val="cc0000"/>
                </a:solidFill>
                <a:latin typeface="Arial"/>
              </a:rPr>
              <a:t>: Nixon’s gradual withdrawal of U.S. troops; Let Vietnamese fight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13:35:02Z</dcterms:created>
  <dc:creator>e200203909</dc:creator>
  <dc:description/>
  <dc:language>en-US</dc:language>
  <cp:lastModifiedBy>Sacerdote, Kevin R.</cp:lastModifiedBy>
  <dcterms:modified xsi:type="dcterms:W3CDTF">2017-05-02T12:10:38Z</dcterms:modified>
  <cp:revision>34</cp:revision>
  <dc:subject/>
  <dc:title>Slide 1</dc:title>
</cp:coreProperties>
</file>